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40A-274A-46DF-9156-0121C1C9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1F3-C718-4495-B3E2-8AF118E4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E17-18EF-40C7-A6C6-7FAE72BD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555-87B9-4999-B253-272ED2A6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5CE-1E53-4769-A784-297CE18A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28F-4534-49A8-8E72-6806A435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B05-FD7D-4226-863B-E141108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AF4-3EB4-497B-AA99-357CEF9B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517-983E-4F59-B2B4-B124C22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10B-A557-41A6-A768-4640670C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64F-4866-48B6-A09B-EB3F3FD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CB4-515E-4555-9086-44776E98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690A9-0144-4FAC-A36C-157B04203F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98690-38E7-4DCE-A27D-986B663FE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Draw the Bohr model for Lithium (Li) which has an atomic number of 3.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ion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/Nonmetal Category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8.4 Metals, Nonmetals, and Metallo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03120" y="1600200"/>
            <a:ext cx="74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etals are located on the left and center of the periodic table.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768240" y="1828800"/>
            <a:ext cx="74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onmetals are located on the right of the periodic tabl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844560" y="1828800"/>
            <a:ext cx="74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etalloids are located on the “staircase” in between the metals and nonmetal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857160" y="1765440"/>
            <a:ext cx="74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s oxygen (O) a metal, nonmetal, or metalloid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0" t="8684" r="0" b="0"/>
          <a:stretch/>
        </p:blipFill>
        <p:spPr>
          <a:xfrm>
            <a:off x="857160" y="2201760"/>
            <a:ext cx="745488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 Lithium (Li) a metal, nonmetal, or metalloi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0" t="8684" r="0" b="0"/>
          <a:stretch/>
        </p:blipFill>
        <p:spPr>
          <a:xfrm>
            <a:off x="857160" y="2201760"/>
            <a:ext cx="745488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63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/Nonmetal Category Game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Write your team name on the paper you are giv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Categorize each as a metal, nonmetal, or metalloid.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When you are happy with your choices, turn them in to the substit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0:54:28Z</dcterms:created>
  <dc:creator>Caroline Roth</dc:creator>
  <dc:description/>
  <dc:language>en-US</dc:language>
  <cp:lastModifiedBy>Caroline Roth</cp:lastModifiedBy>
  <cp:lastPrinted>2011-03-28T11:19:24Z</cp:lastPrinted>
  <dcterms:modified xsi:type="dcterms:W3CDTF">2011-03-28T11:19:32Z</dcterms:modified>
  <cp:revision>4</cp:revision>
  <dc:subject/>
  <dc:title>Metals, Nonmetals, and Metalloids</dc:title>
</cp:coreProperties>
</file>